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LICKER.WAV" ContentType="audio/x-wav"/>
  <Override PartName="/ppt/media/image2.wmf" ContentType="image/x-wmf"/>
  <Override PartName="/ppt/media/chimes.wav" ContentType="audio/x-wav"/>
  <Override PartName="/ppt/media/image1.wmf" ContentType="image/x-wmf"/>
  <Override PartName="/ppt/media/CHEEPCHP.WAV" ContentType="audio/x-wav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3A71-6D99-4CF5-B78A-451375D0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45FA-82FF-4E70-9702-3228E2B7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43E3-2B92-4E1F-BA07-3C7C8022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4BC3-312C-49F0-8DF3-846EB53E5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615B-2004-4A98-BB89-E194D1C6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2C17-B0F8-4589-99A3-90C39372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1EF1-EC91-499C-B3EE-582B5656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9DE6-7F60-4B9F-AEF1-A253060B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6B74-4B5C-40B2-8B1C-AD8134EF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D53C-9202-46D9-98DB-CB65BAC3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C0CB-43C8-440A-8928-CE401A74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8DB7-D606-420D-8E24-194DD598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1884-3917-40DC-8246-CDBAACBD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5C5F-A3E5-4EA9-87CB-0FDF6F6E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3472-6F24-4FB7-B6E7-686B87F8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3355-DE3A-4349-956B-E23C4C1B9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6481-410A-4835-8D2B-4FA8B8EA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0D7A-46A0-426C-8AD8-4351BB04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331C-067F-47DF-AD12-323D67DB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1316-3F2A-492E-9590-2DEA0E27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6497-9A48-408F-A714-0F6C5849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3B26-AD36-4166-BBE7-1BF4E96E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9C40-3A0F-4CB5-B09A-C725D9B3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61D4-FA6A-41B5-81D1-15C8CB5C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66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66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66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66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01E5-B845-4BEF-9DDD-A78DED0FB71E}" type="slidenum">
              <a:rPr b="0" lang="ar-SA" sz="1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66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5CDB-51A4-429E-AC94-AD67349AEDBA}" type="slidenum">
              <a:rPr b="0" lang="ar-SA" sz="1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66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66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6666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66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66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66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66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ER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EEPCHP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700360" y="189000"/>
            <a:ext cx="360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مهن مرتبطة بالعلوم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403280" y="2421000"/>
            <a:ext cx="597708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9360">
                  <a:solidFill>
                    <a:srgbClr val="006666"/>
                  </a:solidFill>
                  <a:miter/>
                </a:ln>
                <a:solidFill>
                  <a:srgbClr val="000000"/>
                </a:solidFill>
                <a:latin typeface="FS_Diwany"/>
              </a:rPr>
              <a:t>الخبــاز</a:t>
            </a:r>
            <a:endParaRPr b="1" lang="en-US" sz="6000" spc="1" strike="noStrike">
              <a:ln w="9360">
                <a:solidFill>
                  <a:srgbClr val="006666"/>
                </a:solidFill>
                <a:miter/>
              </a:ln>
              <a:solidFill>
                <a:srgbClr val="000000"/>
              </a:solidFill>
              <a:latin typeface="FS_Diwany"/>
              <a:ea typeface="FS_Diwan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42920" y="2637000"/>
            <a:ext cx="705492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66"/>
                </a:solidFill>
                <a:latin typeface="Times New Roman"/>
              </a:rPr>
              <a:t>الخبز واحد من أهم العناصر الأساسية والغذائية لدى معظم الشعوب منذ قرون طويلة، وفيما يعتبر أول الأطعمة، تعتبر حرفة الخباز من أول الحرف التي عرفتها البشرية</a:t>
            </a:r>
            <a:r>
              <a:rPr b="1" lang="ar-EG" sz="3600" spc="-1" strike="noStrike">
                <a:solidFill>
                  <a:srgbClr val="ff0066"/>
                </a:solidFill>
                <a:latin typeface="Times New Roman"/>
              </a:rPr>
              <a:t>.</a:t>
            </a:r>
            <a:br>
              <a:rPr sz="2800"/>
            </a:b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627280" y="836640"/>
            <a:ext cx="388800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00000" y="1628640"/>
            <a:ext cx="741528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ff"/>
                </a:solidFill>
                <a:latin typeface="Times New Roman"/>
              </a:rPr>
              <a:t>وبالإمكان رؤية أرغفة الخبز القديمة التي كان ينتجها ويصنعها الفراعنة قبل </a:t>
            </a:r>
            <a:r>
              <a:rPr b="1" lang="ar-EG" sz="4000" spc="-1" strike="noStrike">
                <a:solidFill>
                  <a:srgbClr val="ff00ff"/>
                </a:solidFill>
                <a:latin typeface="Times New Roman"/>
              </a:rPr>
              <a:t>5000</a:t>
            </a:r>
            <a:r>
              <a:rPr b="1" lang="ar-EG" sz="4000" spc="-1" strike="noStrike">
                <a:solidFill>
                  <a:srgbClr val="ff00ff"/>
                </a:solidFill>
                <a:latin typeface="Times New Roman"/>
              </a:rPr>
              <a:t> سنة شاهدة للعيان في المتحف البريطاني حتى الآن إلى جانب حبوب القمح التي كانت تزرع، تحصد وتجفف على ضفاف النيل</a:t>
            </a:r>
            <a:r>
              <a:rPr b="1" lang="ar-EG" sz="4000" spc="-1" strike="noStrike">
                <a:solidFill>
                  <a:srgbClr val="ff00ff"/>
                </a:solidFill>
                <a:latin typeface="Times New Roman"/>
              </a:rPr>
              <a:t>.</a:t>
            </a:r>
            <a:r>
              <a:rPr b="1" lang="ar-EG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340000" y="4749840"/>
            <a:ext cx="381780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042920" y="1052640"/>
            <a:ext cx="741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66"/>
                </a:solidFill>
                <a:latin typeface="Times New Roman"/>
              </a:rPr>
              <a:t>يُمَارِسُ الْخَبَّازُ مِهْنَةً جَلِيلَةً. فَهوَ يُعِّدُ لنَا الْخُبْرَ الذي نَأكُلَهُ</a:t>
            </a:r>
            <a:r>
              <a:rPr b="1" lang="ar-EG" sz="36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66"/>
                </a:solidFill>
                <a:latin typeface="Times New Roman"/>
              </a:rPr>
              <a:t>يَخْلِطُ الْخَبَّازُ الْدَقِيقَ بِالْمَاءِ وبأشْيَاءَ أُخْرى لِعَمَل الْعَجِينِ، ويَتْرُكُهُ بَعْضَ الْوَقْتِ، حَتّى يُصْبِحَ جَاهِزًا لِلْخَبْزِ فِي الْفُرْنِ. الْحَرَارَةُ تُغَيِّرُ الْعَجِينَ بَعْدَ ذلكَ وَتجْعلُهُ خُبزًا</a:t>
            </a:r>
            <a:r>
              <a:rPr b="1" lang="ar-EG" sz="3600" spc="-1" strike="noStrike">
                <a:solidFill>
                  <a:srgbClr val="0066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03640" y="4724280"/>
            <a:ext cx="31161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26920" y="1844640"/>
            <a:ext cx="73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0066"/>
                </a:solidFill>
                <a:latin typeface="Times New Roman"/>
              </a:rPr>
              <a:t>الْمَخَابِزُ الْحَدِيثَةُ تَسْتَخْدِمُ أدَواتٍ وَتَقَنِياتٍ مُتَطَوِّرَةً لإعْدَادِ مَأكُولاتٍ كَثِيْرَةٍ وَمُتَنَوِعَةٍ</a:t>
            </a: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pic>
        <p:nvPicPr>
          <p:cNvPr id="91" name="repArticles__ctl0_imgArticle" descr=""/>
          <p:cNvPicPr/>
          <p:nvPr/>
        </p:nvPicPr>
        <p:blipFill>
          <a:blip r:embed="rId1"/>
          <a:stretch/>
        </p:blipFill>
        <p:spPr>
          <a:xfrm>
            <a:off x="2411280" y="3860640"/>
            <a:ext cx="412596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08:17:34Z</dcterms:modified>
  <cp:revision>50</cp:revision>
  <dc:subject/>
  <dc:title>PowerPoint Presentation</dc:title>
</cp:coreProperties>
</file>